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9953-E28C-49F6-AAED-2F18952E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48E-561A-4019-9088-DC79C42A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654D-8185-49DF-B22F-E31A8B36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A33F-BA40-4F09-93FB-EB249078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51E5-3A5B-448F-BCCE-6562E979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08BC9-3F8C-49F2-A846-F440F2A8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CF75-F3C9-415F-9C54-71754F66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AF63-3829-4C7C-9D99-67117D0A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4255-1FEF-4F5B-BDC2-D963FEF9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5DC5-EA6B-486A-A996-8F28BDEE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B459-E866-4DAA-A615-70498CE9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213B-F56C-4D2F-9BAD-827FE0D6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8CCB-B62E-4453-B71A-7BE163FE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7DB7-ACB3-4DDF-82EB-799EC161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58B3-461C-4C48-95CD-6FD18B16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9146-14EA-496C-A73A-969FF4E7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3FCD-90BF-44BE-BCF9-B3ACA441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888-2D0D-44A4-BB91-F6AFE13C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B85-20E1-48EA-96FC-FC213DE0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3215-3C1F-4D44-BA73-C5C3FE5E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94C-3B03-4533-A3BB-3B7203E5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A3C-CD1A-4182-B9A1-5AC0A14E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DA1D-B1BF-4AAA-A516-A81BE7C0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A22-7797-46D9-AFF5-6808C0FA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91D5-B0DC-40BA-ACC8-9FE3A21F9C5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DF5E-7AF0-4A8B-A5A6-159FCA4092A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Calibri"/>
              </a:rPr>
              <a:t>Итоговая сессия Ученого совета РГГ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Calibri"/>
              </a:rPr>
              <a:t>24 – 25 </a:t>
            </a:r>
            <a:r>
              <a:rPr b="1" lang="ru-RU" sz="3600" spc="-1" strike="noStrike">
                <a:solidFill>
                  <a:srgbClr val="0066ff"/>
                </a:solidFill>
                <a:latin typeface="Calibri"/>
              </a:rPr>
              <a:t>января 2006 г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Calibri"/>
              </a:rPr>
              <a:t>Распределение аспирантов, обучающихся за счет средств ФБ по отраслям науки и специальност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79280" y="1268280"/>
          <a:ext cx="8802720" cy="5776920"/>
        </p:xfrm>
        <a:graphic>
          <a:graphicData uri="http://schemas.openxmlformats.org/drawingml/2006/table">
            <a:tbl>
              <a:tblPr/>
              <a:tblGrid>
                <a:gridCol w="3310200"/>
                <a:gridCol w="647640"/>
                <a:gridCol w="647280"/>
                <a:gridCol w="720360"/>
                <a:gridCol w="718560"/>
                <a:gridCol w="649080"/>
                <a:gridCol w="647280"/>
                <a:gridCol w="647280"/>
                <a:gridCol w="601560"/>
                <a:gridCol w="216000"/>
              </a:tblGrid>
              <a:tr h="4590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сли науки и специа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й выпуск 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конец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с защитой диссер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-измерительные и управляющие системы (по отрасл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и управление народным хозяй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 науки о Зем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я суши, гидрохимия, водные ресур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я, климат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инфор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Подготовка высококвалифицированных кадров (докторантура) в 200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8360" y="1341360"/>
          <a:ext cx="8229600" cy="5097600"/>
        </p:xfrm>
        <a:graphic>
          <a:graphicData uri="http://schemas.openxmlformats.org/drawingml/2006/table">
            <a:tbl>
              <a:tblPr/>
              <a:tblGrid>
                <a:gridCol w="3251160"/>
                <a:gridCol w="1440000"/>
                <a:gridCol w="936360"/>
                <a:gridCol w="1262160"/>
                <a:gridCol w="1339920"/>
              </a:tblGrid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доктора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начало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й выпуск в отчет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конец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защитой диссер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торанты подготовка которых осуществлена за счет средств федераль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торанты подготовка который осуществлена по прямым договорам с оплатой стоимост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го доктора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ределение докторантов, обучающихся за счет средств ФБ по отраслям науки и специальност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я суши водные ресурсы, гидрохим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я, климат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Эффективность деятельности диссертационных советов в 200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280" y="1773360"/>
          <a:ext cx="8713800" cy="4084560"/>
        </p:xfrm>
        <a:graphic>
          <a:graphicData uri="http://schemas.openxmlformats.org/drawingml/2006/table">
            <a:tbl>
              <a:tblPr/>
              <a:tblGrid>
                <a:gridCol w="1944720"/>
                <a:gridCol w="1631880"/>
                <a:gridCol w="1711440"/>
                <a:gridCol w="1712880"/>
                <a:gridCol w="1712880"/>
              </a:tblGrid>
              <a:tr h="71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фр со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212.197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ень научных специальностей, по которым проводится защ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7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идрология суши, водные ресурсы, гидрохим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8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Океа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еоинформатика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6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ео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7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идрология суши, водные ресурсы, гидрохим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щищ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серт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Издательская деятельность в 200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5</a:t>
            </a: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050920" y="1125360"/>
          <a:ext cx="5040360" cy="5553360"/>
        </p:xfrm>
        <a:graphic>
          <a:graphicData uri="http://schemas.openxmlformats.org/drawingml/2006/table">
            <a:tbl>
              <a:tblPr/>
              <a:tblGrid>
                <a:gridCol w="3745080"/>
                <a:gridCol w="129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графии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, изда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йскими издательствами, из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зд-вом «Высшая школ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здательством ву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орники научных трудов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международных научных конференций симпозиу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другие сбор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ики и учебные пособ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грифом УМО и НМ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 грифом Рос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ьи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зарубежных изда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 российских издан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Распределение тем по кол-ву и объему </a:t>
            </a:r>
            <a:br>
              <a:rPr sz="2400"/>
            </a:b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с 2001 по 2005 г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280" y="1628640"/>
          <a:ext cx="8929800" cy="4707000"/>
        </p:xfrm>
        <a:graphic>
          <a:graphicData uri="http://schemas.openxmlformats.org/drawingml/2006/table">
            <a:tbl>
              <a:tblPr/>
              <a:tblGrid>
                <a:gridCol w="1584360"/>
                <a:gridCol w="504720"/>
                <a:gridCol w="1079640"/>
                <a:gridCol w="503280"/>
                <a:gridCol w="936720"/>
                <a:gridCol w="504720"/>
                <a:gridCol w="934920"/>
                <a:gridCol w="533520"/>
                <a:gridCol w="906480"/>
                <a:gridCol w="504720"/>
                <a:gridCol w="936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.агентство по обр.(Мин.обр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8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72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9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77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71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. агентство по науке и инн.(Роснаук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0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3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36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4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3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2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/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8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8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14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98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5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-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ые контрак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8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85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3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1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6 45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 36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Calibri"/>
              </a:rPr>
              <a:t>Распределение тем по факультетам за период с 2001 по 2005 г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1600200"/>
          <a:ext cx="8964720" cy="4478400"/>
        </p:xfrm>
        <a:graphic>
          <a:graphicData uri="http://schemas.openxmlformats.org/drawingml/2006/table">
            <a:tbl>
              <a:tblPr/>
              <a:tblGrid>
                <a:gridCol w="1737000"/>
                <a:gridCol w="495000"/>
                <a:gridCol w="936720"/>
                <a:gridCol w="503280"/>
                <a:gridCol w="936720"/>
                <a:gridCol w="504720"/>
                <a:gridCol w="934920"/>
                <a:gridCol w="505080"/>
                <a:gridCol w="934920"/>
                <a:gridCol w="504720"/>
                <a:gridCol w="971640"/>
              </a:tblGrid>
              <a:tr h="31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ульт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 руб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9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2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3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4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5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5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16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9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8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х и соц.-гум. нау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57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6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23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49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20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ской институ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иал (Туапс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85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3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 1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6 45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 36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Эффективность деятельности диссертационных сове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79280" y="2637000"/>
          <a:ext cx="8785440" cy="4262400"/>
        </p:xfrm>
        <a:graphic>
          <a:graphicData uri="http://schemas.openxmlformats.org/drawingml/2006/table">
            <a:tbl>
              <a:tblPr/>
              <a:tblGrid>
                <a:gridCol w="1513080"/>
                <a:gridCol w="2663640"/>
                <a:gridCol w="792360"/>
                <a:gridCol w="792000"/>
                <a:gridCol w="792360"/>
                <a:gridCol w="792000"/>
                <a:gridCol w="647640"/>
                <a:gridCol w="792360"/>
              </a:tblGrid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7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идрология суши, водные ресурсы, гидрохим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8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Океа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212.197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5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еоинформатика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6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еоэ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212.197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27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Гидрология суши, водные ресурсы, гидрохимия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3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Метеорология, климатология, агрометео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79280" y="1844640"/>
          <a:ext cx="8785440" cy="1359000"/>
        </p:xfrm>
        <a:graphic>
          <a:graphicData uri="http://schemas.openxmlformats.org/drawingml/2006/table">
            <a:tbl>
              <a:tblPr/>
              <a:tblGrid>
                <a:gridCol w="1513080"/>
                <a:gridCol w="2663640"/>
                <a:gridCol w="3816360"/>
                <a:gridCol w="792360"/>
              </a:tblGrid>
              <a:tr h="136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фр со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ень научных специальностей, по которым проводится защи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щищ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сертаций по год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Пленарное засед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907560"/>
            <a:ext cx="822960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ступительное слов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ректор, Л.Н. Карл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Научная деятельность университета в 2005 году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роректор по НР,   В.Н. Воробье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ондратович К.В. (зав. кафедрой ДАКЗ, профессор, д.г.н.) -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 предсказуемости Невских наводн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Арсеньев Г.С. (профессор кафедры Гидрологии суши, профессор, д.т.н.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идроэнергоресурсы Сибири и проблемы их исполь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Терехова П.А. (ст. преподаватель кафедры РЯ и СО) –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SP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как коммуникационный процесс (инновационная технология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митриев В.В. (профессор кафедры Прикладной экологии, д.г.н.) –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азработка государственного образовательного стандарта третьего поколения по экологическим образовательным стандартам в России в свете идеи Болонского процес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Итоговая сессия Ученого совета РГГ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76360" y="2708280"/>
            <a:ext cx="6400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Arial Unicode MS"/>
              </a:rPr>
              <a:t>Научная деятельность университета в 2005 год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81bd"/>
                </a:solidFill>
                <a:latin typeface="Calibri"/>
              </a:rPr>
              <a:t>Основные научные направления (научные школы) образовательного учре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981000"/>
          <a:ext cx="8259840" cy="5673960"/>
        </p:xfrm>
        <a:graphic>
          <a:graphicData uri="http://schemas.openxmlformats.org/drawingml/2006/table">
            <a:tbl>
              <a:tblPr/>
              <a:tblGrid>
                <a:gridCol w="442440"/>
                <a:gridCol w="6187320"/>
                <a:gridCol w="1414800"/>
                <a:gridCol w="216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научного направления (научной школы)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храна окружающей среды, мониторинг, моделирование возникновения развития природных и техногенных процессов на водных объектах и в атмосфе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етические и экспериментальные исследования гидрофизических, гидрохимических и гидробиологических процессов в морях и прибрежных зон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динамики водных ресурсов и качества вод в условиях естественного развития гидрометеорологических процессов с целью создания системы наиболее рационального использования и охраны поверхностных вод суш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я атмосферных процессов и явлений, оценка изменений климата под влиянием естественных и антропогенных факторов в интересах обеспечения народного хозяйства и охраны окружающей сре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диагностических и прогностических моделей развития природных и техногенных катастрофических ситуаций на водных объектах и в приземном слое атмосфер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сенсорные геоинформационные системы дистанционного мониторинга окружающей среды. Технологии сбора, обработки, преобразования и моделирования геоинформации, информационная безопасность в геоинформационных систем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и управление народным хозяйством, управление инновациями с учетом природных факторов, экономика природополь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текстовых лексико-грамматических и семантико-синтаксических особенностей подъязыка гидрометеорологии. Исследование научной, информационной и официально-деловой реч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на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ff"/>
                </a:solidFill>
                <a:latin typeface="Calibri"/>
              </a:rPr>
              <a:t>Участие вуза в выполнении                   федерально-целевых и научно-технических програм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16000" y="1125360"/>
          <a:ext cx="7129440" cy="6156360"/>
        </p:xfrm>
        <a:graphic>
          <a:graphicData uri="http://schemas.openxmlformats.org/drawingml/2006/table">
            <a:tbl>
              <a:tblPr/>
              <a:tblGrid>
                <a:gridCol w="401760"/>
                <a:gridCol w="3198600"/>
                <a:gridCol w="1513080"/>
                <a:gridCol w="2016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Н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ФЦ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ировой океан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сследования и разработки по приоритетным направлениям развития науки и техник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40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обрнау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71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лан ВУ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7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Т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93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Университеты Росси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2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эконом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е програм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ые гран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36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7680" y="348840"/>
            <a:ext cx="807732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Calibri"/>
              </a:rPr>
              <a:t>Сводные сведения о выполнении НИР в 200</a:t>
            </a:r>
            <a:r>
              <a:rPr b="0" lang="en-US" sz="2900" spc="-1" strike="noStrike">
                <a:solidFill>
                  <a:srgbClr val="0066ff"/>
                </a:solidFill>
                <a:latin typeface="Calibri"/>
              </a:rPr>
              <a:t>5</a:t>
            </a:r>
            <a:r>
              <a:rPr b="0" lang="ru-RU" sz="2900" spc="-1" strike="noStrike">
                <a:solidFill>
                  <a:srgbClr val="0066ff"/>
                </a:solidFill>
                <a:latin typeface="Calibri"/>
              </a:rPr>
              <a:t> году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95280" y="1197000"/>
          <a:ext cx="8302680" cy="5908680"/>
        </p:xfrm>
        <a:graphic>
          <a:graphicData uri="http://schemas.openxmlformats.org/drawingml/2006/table">
            <a:tbl>
              <a:tblPr/>
              <a:tblGrid>
                <a:gridCol w="519120"/>
                <a:gridCol w="3632040"/>
                <a:gridCol w="2076480"/>
                <a:gridCol w="207504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 финансир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Н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федерального бюдж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образо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науке и инновац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эконом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а Субъектов Фед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орган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ные гра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36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Сведения по НИР за 2005 год                 (по факультетам РГГМ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8000" y="1557360"/>
          <a:ext cx="8751960" cy="4975200"/>
        </p:xfrm>
        <a:graphic>
          <a:graphicData uri="http://schemas.openxmlformats.org/drawingml/2006/table">
            <a:tbl>
              <a:tblPr/>
              <a:tblGrid>
                <a:gridCol w="1473120"/>
                <a:gridCol w="254160"/>
                <a:gridCol w="718920"/>
                <a:gridCol w="150840"/>
                <a:gridCol w="714600"/>
                <a:gridCol w="287280"/>
                <a:gridCol w="647640"/>
                <a:gridCol w="144360"/>
                <a:gridCol w="647640"/>
                <a:gridCol w="289080"/>
                <a:gridCol w="684000"/>
                <a:gridCol w="179640"/>
                <a:gridCol w="609480"/>
                <a:gridCol w="144360"/>
                <a:gridCol w="654120"/>
                <a:gridCol w="289080"/>
                <a:gridCol w="863640"/>
              </a:tblGrid>
              <a:tr h="863640">
                <a:tc rowSpan="2">
                  <a:txBody>
                    <a:bodyPr lIns="36000" rIns="36000" tIns="540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уль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образова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ное Агентство по науке и инновация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ные программы (Санкт-Петербург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Ф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з. договорные НИ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 минист-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убеж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е гран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ео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50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др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еанологичес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04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и и физики природной сре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х и соц.-гуман. нау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С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0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0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81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ской институ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71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60</a:t>
                      </a: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50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12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255</a:t>
                      </a: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2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9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36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Участие в выставках и конференциях в 200</a:t>
            </a:r>
            <a:r>
              <a:rPr b="0" lang="en-US" sz="3200" spc="-1" strike="noStrike">
                <a:solidFill>
                  <a:srgbClr val="0066ff"/>
                </a:solidFill>
                <a:latin typeface="Calibri"/>
              </a:rPr>
              <a:t>5</a:t>
            </a:r>
            <a:r>
              <a:rPr b="0" lang="ru-RU" sz="3200" spc="-1" strike="noStrike">
                <a:solidFill>
                  <a:srgbClr val="0066ff"/>
                </a:solidFill>
                <a:latin typeface="Calibri"/>
              </a:rPr>
              <a:t>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ставки, всего –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 том числе международные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спонаты, представленные на выставках, 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ференции –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 том числе международные,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всероссийские,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на базе вуза,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мии, дипломы, награды -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ff"/>
                </a:solidFill>
                <a:latin typeface="Calibri"/>
              </a:rPr>
              <a:t>Подготовка высококвалифицированных кадров (аспирантура) в 2005 г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1484280"/>
          <a:ext cx="8785440" cy="6332400"/>
        </p:xfrm>
        <a:graphic>
          <a:graphicData uri="http://schemas.openxmlformats.org/drawingml/2006/table">
            <a:tbl>
              <a:tblPr/>
              <a:tblGrid>
                <a:gridCol w="2233800"/>
                <a:gridCol w="574560"/>
                <a:gridCol w="649440"/>
                <a:gridCol w="647640"/>
                <a:gridCol w="647640"/>
                <a:gridCol w="647640"/>
                <a:gridCol w="792360"/>
                <a:gridCol w="649080"/>
                <a:gridCol w="792360"/>
                <a:gridCol w="503280"/>
                <a:gridCol w="647640"/>
              </a:tblGrid>
              <a:tr h="459000">
                <a:tc rowSpan="3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аспира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начало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ыло до окончания с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ический выпуск в отчетном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енность на конец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с защитой диссерт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них оч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иранты, обучающиеся за счет средств федерального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аспиранты – граждане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спиранты, обучающиеся по прямым договорам с оплатой стоимост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аспиранты – граждане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го аспира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r>
                        <a:rPr b="0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т.ч. аспирантов – граждан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16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792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09:09:37Z</dcterms:created>
  <dc:creator>NIS-1</dc:creator>
  <dc:description/>
  <dc:language>en-US</dc:language>
  <cp:lastModifiedBy>Васильев Роман</cp:lastModifiedBy>
  <dcterms:modified xsi:type="dcterms:W3CDTF">2008-01-24T16:07:14Z</dcterms:modified>
  <cp:revision>144</cp:revision>
  <dc:subject/>
  <dc:title>Итоговая сессия Ученого совета РГГМУ</dc:title>
</cp:coreProperties>
</file>